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jeopardy.wav" ContentType="audio/x-wav"/>
  <Override PartName="/ppt/media/image24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E59D-9C12-46BD-9789-9D0E3C83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7F5-844F-4CD7-ADA9-C99465CDA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D2C-ED23-42E9-B57E-4F86751DAD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F50-9F15-4AC7-B9C2-9BBC3E6AA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83B-B6CA-4106-91CD-2A221E67CD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9B6F-72AD-4443-BD7F-CA4B3EB7C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E6B-7F33-4DE8-BE79-EEE165F44D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D92-4609-4174-BDE0-2014F62FF3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C97-3089-4510-B1A2-C4DA48805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1034-E04E-42B7-ACEA-D23EA9186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354-7502-4466-B5E4-E1B716F77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1DC-58AE-4C15-BA66-54FA29A31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7257-5F92-487A-B5EB-AA94C07F8B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51A-2C23-43FA-99E3-90D582079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7001-7E56-4F87-887A-49F6F03BD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14C-6A95-4C29-84D7-750326B22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156-F144-4955-A8AD-D5BF57AF0B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351-4EF7-49DA-B3A1-F53A73229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D01-73DB-4DE2-B1A3-1C1453737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BCA-F7F5-427D-9FC5-A32B9FBDC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E461-3287-4EAC-85DA-C55169E27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76AF-71E4-497E-B4CA-B44533A9D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196-A2CA-4671-BA1F-5356F42D9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D4E-F40A-47DC-B3CB-885F3C5A5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D9A-BD2D-4114-AED2-92D1E89BB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3771-E111-431A-A3B8-BFF6651D6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8842-23DE-45B8-AC29-89E26C4B5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A091-AF54-4231-8060-FF6A20ED7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38F6-06E8-42B1-9652-56AD2D2793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8EB-3664-4E2F-BA50-58B6DE2B9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1CC-61C6-4510-BF5C-CF7A75692A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8CAC-5B9E-4F45-9C2B-B7E3CE95AF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C5D-7D1C-485B-A13C-B4338F9D0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652-786C-40D1-BC8E-8A7415607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279-F805-42B4-A8CB-09EC6C926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2E4F-7CC7-4651-B35B-DC261204F2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635-3C93-45F3-BE3A-9568CEE56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3E6B-1CF1-49FF-9865-5927572EA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0E2D-A0A4-4365-8FF3-9EF042DA8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B34-3107-4B18-AD0F-365F7F6F6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40C-F972-4174-B2E5-F3F4200F8B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9FA-FA65-4BF1-82D6-1460C08BB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EFF-B4FE-4BE1-86A3-E7A97E363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6283-879A-4720-9A16-7842A709F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8AD-360E-4BB9-B513-AF318B2EF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201-68B1-4AA2-A1F6-DFE2894B5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2FC-2E60-44F7-953D-CE78573B4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2D7D-93CE-4475-AC7B-00C34E7E0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AC3-0F89-4EEA-8614-57398EA074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A11-CE52-4CF5-A489-E021A92F7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338-9BBB-4E5A-BEB8-C99F01A19F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70C-C611-4BDD-97EF-9BEA511FB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EFA-7010-4403-B37C-8DA078517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116-B709-4CD8-B5EE-9543DB32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BC2-AA09-4DE0-BC12-8E892DAF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EA0-DD8E-4E00-822F-4A51B92B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6FE-046D-41A6-9F3B-1FD756C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E15-B0CF-49B4-8C68-0A0FDA51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20F2-6C8E-4763-AD75-1264118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4F7F-C87A-477C-BC01-D85C986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97A-AFAF-4E2D-A878-F4945A47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A91-BC88-40EE-B621-74A8CBDF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278E-410D-426B-A704-89D48809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3AD-AB83-4815-AB3F-8EFC69A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52F-45F3-434F-82E7-D40B5863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C098-DD03-4730-BA38-A1B36E0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D11C-57FD-4FA1-8866-6C51033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DB8-E345-4147-851C-7DCB002F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221-FCCB-4AD9-AC42-35D306DE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E425-CFF6-44C6-BFB4-6FAEB36C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64FA-839B-437F-B9F8-AECE8A9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4637-9F31-48FF-ACB3-10C1A850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F241-7D92-4878-8FE1-D5CE731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EF7B-FF65-4B07-955A-39D35F98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882C-6F42-4FC0-A8AB-97E1959A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197-D6A6-424A-A651-F88FA4E2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AE2D-BF84-4412-BFAA-9FC9E23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6946-2C86-421F-BA41-6309592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E583-E242-40FA-8F1A-E42C165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B10D-A015-4912-8FEF-D34389C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2CF1-67AD-4159-BE20-FAC9651D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A3AA-FB7B-42E0-89AF-6FB9FF1A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8004-A491-413E-9FBE-00AD0538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C68-6968-4DE1-8B4C-6306456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3F3-81A6-4CC8-B044-43012B1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B9C-7CB9-467B-9339-2ADD7C6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17F-454E-469B-B46A-DF0A2AB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E0D-4E74-465D-9B36-064F346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423-E433-4748-93BA-9DA2406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19EC-9DCD-4C06-AFEC-1A85EBFA8D14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FF3C-237C-464A-BB2F-534A39A8644A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931-3B4C-4FB4-AAA2-E9675B16DF35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audio" Target="../media/jeopardy.wav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73080" y="1139760"/>
            <a:ext cx="8620200" cy="1268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14080" y="259092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2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259092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amount of calories equals one pou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3110400" y="2590920"/>
            <a:ext cx="23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35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1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2280" y="25909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 wash your hands with, _____, 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before and after handling f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2256840" y="2819520"/>
            <a:ext cx="450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hot, soap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2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18680" y="2514600"/>
            <a:ext cx="812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put cooked food items back on the s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e that previously held thi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189000" y="396720"/>
            <a:ext cx="8583480" cy="1554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804760" y="2590920"/>
            <a:ext cx="29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raw f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109440" y="47628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33520" y="2590920"/>
            <a:ext cx="79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garding picnic food: when in doubt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  __  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36360" y="6285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2582280" y="259092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row it ou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57200" y="2590920"/>
            <a:ext cx="80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se are four simple steps to keep f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fe and fight harmful bacte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762120" y="152388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4"/>
          <p:cNvSpPr/>
          <p:nvPr/>
        </p:nvSpPr>
        <p:spPr>
          <a:xfrm>
            <a:off x="838080" y="1523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Weights &amp; Measu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62320" y="1523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Food safe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809880" y="1523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Kitchen Equi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94240" y="152388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Nutrition Guide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928560" y="1523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282348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109440" y="4334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343880" y="2590920"/>
            <a:ext cx="58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clean, separate, cook and chi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92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192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192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192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2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0" y="2590920"/>
            <a:ext cx="92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mburger should be cooked to ____*F, bone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cken to ____*F and whole chicken to ____*F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09440" y="3603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2170800" y="25909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60, 165 and 18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1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295280" y="2590920"/>
            <a:ext cx="56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a pan with a hole in the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76040" y="63972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2010240" y="25909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ngel food cake p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"/>
                            </p:stCondLst>
                            <p:childTnLst>
                              <p:par>
                                <p:cTn id="4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914400" y="2819520"/>
            <a:ext cx="60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used for choppin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76040" y="60336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2459520" y="259092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chef’s knif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300"/>
                            </p:stCondLst>
                            <p:childTnLst>
                              <p:par>
                                <p:cTn id="4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3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762120" y="2590920"/>
            <a:ext cx="66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used to beat egg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176040" y="56052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920" y="2590920"/>
            <a:ext cx="35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wire whisk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04920" y="2590920"/>
            <a:ext cx="74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tensil used to drain liqui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1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2590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his many teaspoons in one tablespo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109440" y="2811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2353680" y="2590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slotted spo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5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 used to break up lumps and incorporate ai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103320" y="938160"/>
            <a:ext cx="8205480" cy="18050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828800" y="3505320"/>
            <a:ext cx="6400800" cy="86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sifte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100 Question from Category 4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2438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source of advice on nutrition and fitness developed by the USD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73080" y="71280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876960" y="2590920"/>
            <a:ext cx="68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ietary Guidelines for America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200 Question from Category 4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not required to be on a Nutrient Facts Labe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197440" y="2590920"/>
            <a:ext cx="416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ingredients used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57200" y="2590920"/>
            <a:ext cx="815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5 servings are recommended from th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group each da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2529720" y="2590920"/>
            <a:ext cx="34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vegetable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2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0" y="259092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lf of a day’s calories should come from thi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152280" y="90792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3392280" y="25909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473920" y="2590920"/>
            <a:ext cx="360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whole grain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200"/>
                            </p:stCondLst>
                            <p:childTnLst>
                              <p:par>
                                <p:cTn id="7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0" y="259092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mount of calories a food has compar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the amoun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3246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300400" y="259092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utrient dens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73080" y="530280"/>
            <a:ext cx="8839080" cy="16095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990720" y="259092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heat just below boil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73080" y="682560"/>
            <a:ext cx="8620200" cy="1609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2899440" y="2590920"/>
            <a:ext cx="27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imm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73080" y="450720"/>
            <a:ext cx="8839080" cy="1616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762120" y="2590920"/>
            <a:ext cx="72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cook in a small amount of f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73080" y="603360"/>
            <a:ext cx="8620200" cy="1536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3089880" y="25909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aut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2" descr=""/>
          <p:cNvPicPr/>
          <p:nvPr/>
        </p:nvPicPr>
        <p:blipFill>
          <a:blip r:embed="rId2"/>
          <a:stretch/>
        </p:blipFill>
        <p:spPr>
          <a:xfrm>
            <a:off x="-139680" y="378000"/>
            <a:ext cx="9137520" cy="1652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0" y="2590920"/>
            <a:ext cx="915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remove the peeling by using a knife or peel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32462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152280" y="865080"/>
            <a:ext cx="8620200" cy="1579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3140280" y="2590920"/>
            <a:ext cx="22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pa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25360" y="603360"/>
            <a:ext cx="8839440" cy="1579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228600" y="259092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work or press dough with your han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2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62800" y="2590920"/>
            <a:ext cx="77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tablespoons in one c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165240" y="530280"/>
            <a:ext cx="8759520" cy="17254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2813400" y="2590920"/>
            <a:ext cx="2937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o knead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5</a:t>
            </a:r>
            <a:br>
              <a:rPr sz="28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457200" y="25909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mix shortening and flour with 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try blender or two kn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85680" y="755640"/>
            <a:ext cx="8839080" cy="1652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28880" y="3124080"/>
            <a:ext cx="29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o cut i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73080" y="987480"/>
            <a:ext cx="862020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303360" y="259092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6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300 Question from Category 3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067040" y="259092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cups in one half gall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73080" y="987480"/>
            <a:ext cx="8620200" cy="1268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3422160" y="259092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Category 1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0" y="2590920"/>
            <a:ext cx="90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fluid ounces in one gall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mil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1:38:36Z</dcterms:created>
  <dc:creator>Cheryl Diermyer</dc:creator>
  <dc:description/>
  <dc:language>en-US</dc:language>
  <cp:lastModifiedBy>DeBates, Debra</cp:lastModifiedBy>
  <dcterms:modified xsi:type="dcterms:W3CDTF">2009-09-14T21:16:01Z</dcterms:modified>
  <cp:revision>81</cp:revision>
  <dc:subject/>
  <dc:title>Slide 1</dc:title>
</cp:coreProperties>
</file>